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breeze.wav" ContentType="audio/x-wav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3689-5779-4716-BAE6-36FD80ECB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63D0-4117-4BCB-984E-470A0662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09CC-00DC-4B6F-853F-042BB4866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280C-2694-4A21-A3AA-B96A024B3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919D-9AA4-419B-B655-259BA4AD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A2EE-4610-4E63-B983-7228DABD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D621-7E3E-4B1C-A8E9-D4C12F10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9312-607C-4F2F-863A-A1F039C0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F9F8-6320-4702-868A-48FADDA6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69EC-3861-4AC4-8252-843BE2E8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ABAD-8563-4B80-A81A-0D5445CA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86AB-3504-4228-90EE-C3E95E92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F5EE-8B84-48C6-9062-EB41B6585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inda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que eu falass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língua dos homen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 falasse a língua dos anjos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m amor eu nada seri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763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vert"/>
    <p:sndAc>
      <p:stSnd>
        <p:snd r:embed="rId2" name="breez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ficina – recursos tecnológ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E Senador Filinto Mu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ia Aparecida Ma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úsica: Monte Cas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vert"/>
    <p:sndAc>
      <p:stSnd>
        <p:snd r:embed="rId2" name="breez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756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É só o amor! É só o amo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 conhece o que é verdade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amor é bom, não quer o mal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ão sente inveja ou se envaide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vert"/>
    <p:sndAc>
      <p:stSnd>
        <p:snd r:embed="rId2" name="breez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811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amor é o fogo que arde sem se ver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É ferida que dói e não se sente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É um contentamento descontente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É dor que desatina sem d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vert"/>
    <p:sndAc>
      <p:stSnd>
        <p:snd r:embed="rId2" name="breez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Imagens de paisagens em papel de pare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nda que eu falass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língua dos homen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 falasse a língua dos anjo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 amor eu nada s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52440" y="32425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vert"/>
    <p:sndAc>
      <p:stSnd>
        <p:snd r:embed="rId2" name="breez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nda que eu falass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língua dos homen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 falasse a língua dos anjo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 amor eu nada se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87600" y="32425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vert"/>
    <p:sndAc>
      <p:stSnd>
        <p:snd r:embed="rId2" name="breez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É um estar-se preso por vontade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É servir a quem vence, o vencedor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É um ter com quem nos matar a lealdade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ão contrário a si é o mesmo a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90760" y="3243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vert"/>
    <p:sndAc>
      <p:stSnd>
        <p:snd r:embed="rId2" name="breez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É um estar-se preso por vontade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É servir a quem vence, o vencedor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É um ter com quem nos mata a lealdade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ão contrário a si é o mesmo am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91800" y="32425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vert"/>
    <p:sndAc>
      <p:stSnd>
        <p:snd r:embed="rId2" name="breez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É um estar-se preso por vontade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É servir a quem vence, o vencedor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É um ter com quem nos mata a lealdade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ão contrário a si é o mesmo am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vert"/>
    <p:sndAc>
      <p:stSnd>
        <p:snd r:embed="rId2" name="breez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7054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nda que eu falass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língua dos homen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 falasse a língua dos anjos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 amor eu nada s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vert"/>
    <p:sndAc>
      <p:stSnd>
        <p:snd r:embed="rId2" name="breez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23:50:53Z</dcterms:created>
  <dc:creator>SEDMS</dc:creator>
  <dc:description/>
  <dc:language>en-US</dc:language>
  <cp:lastModifiedBy>SEDMS</cp:lastModifiedBy>
  <dcterms:modified xsi:type="dcterms:W3CDTF">2010-11-09T00:52:23Z</dcterms:modified>
  <cp:revision>4</cp:revision>
  <dc:subject/>
  <dc:title>MONTE CASTELO – LEGIÃO URBANA </dc:title>
</cp:coreProperties>
</file>